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40FB-6B4C-4A11-8812-AF15C7E1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EF88-B37B-497F-9307-2BD60808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BA3-4400-4731-A0C3-E495912C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187-2EA9-46B5-91EB-2021C57D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4E3-4336-4CEB-B7C3-196C93D3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E48-C17B-4A9C-8B0B-640D7F57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E53-282B-475D-A577-57E19B0F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644-4BF4-4FE9-94DE-A924B0F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F05-0E96-4BE1-ABA9-CC6030E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33C-C59B-48CD-A857-2EEA5DA1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4D2-1C94-46FD-B0A8-76A1399E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FB2-F66D-4E02-8572-3EE12D4F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AB4-723F-4AE8-B31E-7D214F0D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82A-0400-421C-921B-B6105E3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278-9364-404F-A792-3373DE69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lorence 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Florence, yo vivo en la South side  de  Brooklyn. Yo soy catorce ano y tiengo uno hermano y duce hermanas. Soy como feliz, and loca. Adios amig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ien pero que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Muy bien y tú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Buenas dia amigas como est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Screen Shot 2012-12-05 at 1.24.19 PM.png"/>
          <p:cNvPicPr/>
          <p:nvPr/>
        </p:nvPicPr>
        <p:blipFill>
          <a:blip r:embed="rId12"/>
          <a:stretch/>
        </p:blipFill>
        <p:spPr>
          <a:xfrm>
            <a:off x="76320" y="1219320"/>
            <a:ext cx="1490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7:04Z</dcterms:modified>
  <cp:revision>107</cp:revision>
  <dc:subject/>
  <dc:title>Profile</dc:title>
</cp:coreProperties>
</file>